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169D-DAA3-4906-A928-443266C7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3B9E-2CEC-4D01-B267-80B438D4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D8F4-9196-4894-B412-B93A97242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06D0-0D1A-4435-8E69-295FD755E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48D4-AA29-4052-9716-80680CB73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59BB-ED95-43E1-9340-EFB7D117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F383-12F8-45E1-BF55-AA006C07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9AF7-B177-427A-BE68-9826E464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FA4D-D775-4594-BBE1-F04A01F7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DE1A-A369-4655-9282-1D1B63F1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6795-BB2B-4BE3-8010-A73E59F9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5D8A-38E7-4595-9370-A8992185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6784-3610-4075-A1BE-306817AB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7AEB-B9CC-4897-AEC6-BE82BD91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13E3-52F5-4894-8F8D-7DC75881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1501-90BE-4E23-9549-97BB688CF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F6C4-2AA9-4116-83AA-FBAB92AD0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7087-9E73-442E-9089-57E3CC03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EF14-498F-42FE-9AC4-698BB62A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F01F-B686-4417-A62C-C63E25E6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7ECD-543B-4381-816A-D45FFBB2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42FA-C52A-4BF6-A897-6EE2F092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8044-1EA1-46AF-9E19-160C8804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1A58-DD02-49D8-8D03-B7E84325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CD16-C667-426F-9D5F-E82BD197AF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2A6D-3230-4118-B83A-C81EDC11E7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e5ffff"/>
                </a:solidFill>
                <a:latin typeface="Tahoma"/>
              </a:rPr>
              <a:t>Broadband Tests</a:t>
            </a:r>
            <a:br>
              <a:rPr sz="4400"/>
            </a:br>
            <a:r>
              <a:rPr b="0" lang="sv-SE" sz="2400" spc="-1" strike="noStrike">
                <a:solidFill>
                  <a:srgbClr val="e5ffff"/>
                </a:solidFill>
                <a:latin typeface="Tahoma"/>
              </a:rPr>
              <a:t>John Conway</a:t>
            </a:r>
            <a:br>
              <a:rPr sz="2400"/>
            </a:br>
            <a:r>
              <a:rPr b="0" lang="sv-SE" sz="2400" spc="-1" strike="noStrike">
                <a:solidFill>
                  <a:srgbClr val="e5ffff"/>
                </a:solidFill>
                <a:latin typeface="Tahoma"/>
              </a:rPr>
              <a:t>FABRIC F2F-2 </a:t>
            </a:r>
            <a:br>
              <a:rPr sz="2400"/>
            </a:br>
            <a:r>
              <a:rPr b="0" lang="sv-SE" sz="2400" spc="-1" strike="noStrike">
                <a:solidFill>
                  <a:srgbClr val="e5ffff"/>
                </a:solidFill>
                <a:latin typeface="Tahoma"/>
              </a:rPr>
              <a:t>Poznan, Sept 25th 2006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Month 7 PC-EVN  dem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Goals for broadband eVLB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Specification and design of hardware for Onsala-MERLIN dem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Procuring 10Gbit/s Onsala lin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Use of Onsala FABRIC resources manpower/money – in project contex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e5ffff"/>
                </a:solidFill>
                <a:latin typeface="Tahoma"/>
              </a:rPr>
              <a:t>Link Progres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Discussions through SUNET on upgrading our 1Gbit/s to 10Gbit/s (they will negotiate with vendors for us, still waiting for a cost but expect to get this and order soon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Two options, link all the way into Chalmers in Gothenburg (55km)  or connect to trunk in Kungsback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Not absolutely needed until  test in Month 23, Febuary 2008. Purchase depends on price falling/deprecia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Meanwhile Mh has 10Gbit/s already. Traffic goes through Stockholm just like Onsala data– hence can test most of the route in Mh-Jb tests, all except internal Swedish par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46836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e5ffff"/>
                </a:solidFill>
                <a:latin typeface="Tahoma"/>
              </a:rPr>
              <a:t>OPTOSUNE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90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SUNET historically double BW every year. OPTOSUNET is successor to GIGASUNE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Dark fibres leased for a 40Gbit/s backbone- fully implemented e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of 20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Most universities connected at 10Gbit/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Allow both IP and dedicated point-to-poi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wavelengths (cost stucture?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For international transmissions go through NORDUNE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724360" y="765000"/>
            <a:ext cx="257976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e5ffff"/>
                </a:solidFill>
                <a:latin typeface="Tahoma"/>
              </a:rPr>
              <a:t>NORDUNE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619280" y="1557360"/>
            <a:ext cx="5826240" cy="4114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187280" y="5734080"/>
            <a:ext cx="63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Tahoma"/>
              </a:rPr>
              <a:t>Staus as of April  2006, signals go through Stockholm to rest of world, nor sure a direct connection via Copenhagen possible – NORDUNET congress Sept 25th -30th in Göteb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e5ffff"/>
                </a:solidFill>
                <a:latin typeface="Tahoma"/>
              </a:rPr>
              <a:t>Use of Onsala Resour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Onsala has from EU 1 man-year and 10kEuro for Equipment – how to use that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ahoma"/>
              </a:rPr>
              <a:t>Option  1 – Recruit electronic engineer help work on iBoB with Mh. Ex Intl Masters student now at Berkely Wireless research grou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ahoma"/>
              </a:rPr>
              <a:t>Option 2 – Use to broadband the 25m, fibre plus new IF system. Software control of iBoB.  Testing of network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e5ffff"/>
                </a:solidFill>
                <a:latin typeface="Tahoma"/>
              </a:rPr>
              <a:t>Month 7 Dem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-11520" y="1628640"/>
            <a:ext cx="91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EU forced test to demonstrate/re-establish  a baseli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PC-EVN performance – soaks up contributed manpow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for us.  Have now got an (almost)  working PC-EVN at Onsal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Scheduled for Friday Oct 20th. Need to start testing N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Part 1 – At 6cm, 256Mbit/s, record to disk at On an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Jb. Then transfer to JIVE. Convert to Mk5 input 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correlate. Should be easy...done several year ago. Who is ensuring this happens at  JIVE 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Part 2 – At 1.3cm, Mh does ’remote recording’ to PC disk a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JIVE.  Jb records to disk, later transfer, translate a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correlator for fring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605640" y="3976560"/>
            <a:ext cx="122040" cy="1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e5ffff"/>
                </a:solidFill>
                <a:latin typeface="Tahoma"/>
              </a:rPr>
              <a:t>FABRIC broadband goals-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What are we trying to do???? A prototype future eVLBI production system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Will it also do disk recording or just real time?? Major decision between PC-based or FPGA rou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Ideally must service a future EVN correlator which does not exist – can we guess its channelization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Meanwhile we do have MERLIN and LOFAR correlators – maybe we should use them (esp MERLIN) as templa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e5ffff"/>
                </a:solidFill>
                <a:latin typeface="Tahoma"/>
              </a:rPr>
              <a:t>FABRIC broadband goals-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843588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Research project  in distributed correlation, a  part of the JRA but presently more useful conceptually to seperate from Broadband par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Channelisation.  Present system - many tun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filters and parallel bits streams. Old reasons, tape track limit, geodesy no longer valid? eMERLIN, eVLA one thick BW. Forget past start from scratch? To minimise complexity a few chanelisation modes only for transmitter? No specific ’spectral line modes’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No of bits. eVLBI without dark fibre (unlike eMERL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and LOFAR) is still transmit channel limited. Do RFI filtering at station end and just transmit 2bit/sampl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Must decide above issues SOON/TODAY to define exact specific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of what we will  build!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e5ffff"/>
                </a:solidFill>
                <a:latin typeface="Tahoma"/>
              </a:rPr>
              <a:t>FABRIC broadband goals-3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68680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No recording, FPGA technology is the way we go???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iBoB ADC does  8bit and can digitise at Nyquist rate either  1pol of 1GHz BW or  2pol  of 512MHz BW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Transmitter wil lhave smart  RFI rejection and outpu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2bits/sample. ’Notch out’ filtering and outputs a limited number of digitally filtered bandwidths. Say four corresponding t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1024MHz, 512,256,128 MHz?  ( 4 to 1 Gbit/s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Lower limit set by spread of OH maser lines (112MHz) , and whether    network costs for 1Gbit/s are negligble when operat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At input to correlator further channelisation may be done prior to high spectral resolution correlation of multiple narrow channel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e5ffff"/>
                </a:solidFill>
                <a:latin typeface="Tahoma"/>
              </a:rPr>
              <a:t>Interim Goal- EVN stations to eMERLI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Can prototype a new astronomy capability + test out concept prior to new EVN correlat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In general seems reasonable when planning for EVN2010+ – converge on eMERLIN specs BW and  freq ranges for L,C,K, (+add other band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Operational system at L-band. 1 iBoB 512Hz x 2pol giving 4Gbit/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Could expand to have at C and K bands 2 iBoBs, sampling 1GHz of spanned BW at each pol, 2bit sampling, giving 8Gbit/s  - get sqrt(2) sensitivity of eMERLIN – can eMERLIN  obs 2GHz BW sa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time as 1GHz exter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9640" y="4842000"/>
            <a:ext cx="8352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Tahoma"/>
              </a:rPr>
              <a:t>Left.  UV (km)– Coverage for   6 stations MERLIN + Onsala + Wb1  at dec +40deg Right . UV (lambda) shows result of MFS  Multi-frequency thesis for L-band 1300-1800MHz (4Gbit/s data rate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Tahoma"/>
              </a:rPr>
              <a:t>Other possible combinations MERLIN + Onsala only, or include Bonn or Irish telescope.Not a competitor to full EVN or EVN+MERLIN, which even just in Europe  has three times the resolution and 16 st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8900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42920" y="189000"/>
            <a:ext cx="691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404640"/>
            <a:ext cx="671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e5ffff"/>
                </a:solidFill>
                <a:latin typeface="Tahoma"/>
              </a:rPr>
              <a:t>UV Covera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4038480" cy="3030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716360" y="1557360"/>
            <a:ext cx="40388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e5ffff"/>
                </a:solidFill>
                <a:latin typeface="Tahoma"/>
              </a:rPr>
              <a:t>Parameters of 4Gbit/s Dem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Tahoma"/>
              </a:rPr>
              <a:t>Dual Polarization, 512MHz spanned BW, Nyquist sampled, 2bit giving 4Gbit/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Tahoma"/>
              </a:rPr>
              <a:t>Correlate versus eMERLIN 8bit sampled data (16Gbit/s)- potentially has same sensitivity as full 16Gbits/s but no RFI protection – less important on long baselines and can ’notch out’ any strong RFI at Onsala?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Tahoma"/>
              </a:rPr>
              <a:t>Would be very  useful L-band production system, with 25m connected to MERLIN (SEFD=370Jy) . Initial tes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Tahoma"/>
              </a:rPr>
              <a:t>The C and K-band eMERLIN system normally works at  3bit sampling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sv-SE" sz="1800" spc="-1" strike="noStrike">
                <a:solidFill>
                  <a:srgbClr val="ffffff"/>
                </a:solidFill>
                <a:latin typeface="Tahoma"/>
              </a:rPr>
              <a:t>2GHz spanned BW  and 24Gbit/s, can it be switched to the 16Gbit/s, 8bit sampling mode for tes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Tahoma"/>
              </a:rPr>
              <a:t>Option 1 – test at K-band, no new fibre of LO system neede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Tahoma"/>
              </a:rPr>
              <a:t>Option 2 – Fibre to 25m, and broadband L and C band LO system. Better for operational system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e5ffff"/>
                </a:solidFill>
                <a:latin typeface="Tahoma"/>
              </a:rPr>
              <a:t>Timeli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DOW has ’Prototype at Onsala station’ and ’overall broadband demo’ by Month 23 (Feb 2008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Also has eMERLIN interfaces available by Month 30 (Sept 2008) – inconsist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eMERLIN prototype correlator arrives end of 2007. Very hard  to meet Month 23 fringe deadli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Have DAR at Onsala by  March 2008, software integration and transmitting data from 25m to Jb at 4Gbit/s by that time. By Sept 2008 fringes?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Hire Onsala manpower by June 2007 for 1+ year???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06:20:33Z</dcterms:created>
  <dc:creator> John Conway</dc:creator>
  <dc:description/>
  <dc:language>en-US</dc:language>
  <cp:lastModifiedBy> John Conway</cp:lastModifiedBy>
  <dcterms:modified xsi:type="dcterms:W3CDTF">2006-09-25T12:31:59Z</dcterms:modified>
  <cp:revision>33</cp:revision>
  <dc:subject/>
  <dc:title>eVLBI  Science CBD Jodrell Nov 18th 2004</dc:title>
</cp:coreProperties>
</file>